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8D7-8CD1-45D3-A0AD-5C072F5B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5AD-7295-4269-88F5-A482B795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25D-4EF7-499B-BBF0-A356CD16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4E5-161B-402A-B5E6-125B0EED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95EE-E562-4AE7-8685-0D8C3ECA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4AC3-3B22-4280-90F6-3253A47B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C984-25DF-4A98-BBE5-F96454CF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5AFB-D56E-448A-8A49-995B6628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8F2E-FF5B-4BD3-9B97-4661C96A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716A-73D0-498A-A457-37ACB442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E3D0-1947-4324-94DD-50A28CBC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594-0758-4566-816B-768A9539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C636-37CA-4751-9360-FDE2FEB1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1173-671A-4400-9A23-C9B3262D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82EF-5503-4535-B480-3C9430B3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8148-C9FB-48A0-9FAA-26BFA619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4168-5E2C-4A0C-B81F-525C36E8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FC3-FEE1-4A0C-9516-C65E91A1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074-2630-405C-8F2D-5B9782A1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925-7A16-40A6-BC53-50ABCCE5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8F9-D977-4510-8360-37749540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592-1A91-4C28-B54E-03C1B7B7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117-F9F2-4715-9140-9C656925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443-A0C4-4FC5-A1AA-AA1047E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DFDD-6C66-47A3-8089-38D33C0D4DA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A750-ABDF-4FCC-9016-570B622F44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inance in Educ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urt Decision Guidel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uidelines that have emerged from state and federal court decision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ancing education is a state responsibilit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y usually favor the tax payer over the school distric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hool finance funds, including tax monies, are state funds, and not local ones.  Local school districts are agencies of the state and are in reality acting for the st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hool taxes should not be impos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gislature has complete control of public school fu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nerally the courts tend to reflect the values and attitudes of a majority of the people toward the issues and questions o which they are rul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rrano v. Priest (197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dmark decision on August 30, 1971, when the California Supreme Court rules that John Serrano’s complaint against the state’s public school financial pattern was justifiable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ucational expenditures per person in California ranged from $274 in one district to $1,710 in anot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inequality was due to the difference in the assessed valuation of property per pupil to be educa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tax effort in the poorer district was twice as high as that in the wealthi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ourt declared the state’s public school financing system to be unconstitutional, violating the equal protection provisions of the 14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mmend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equences of Serra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era introduced which required school funding to be determined on some basis other than district property wealt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eriod of retrench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ern about the spiraling cost of educational programs and serv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an Antonio Independent School District v. Rodriguez (1973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irst and only equal protection case concerning school finance to be considered by the high court to d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ch 21, 1973, U.S. Supreme Court, by a vote of 5 to 4, reversed the lower court deci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gated all related pending federal court 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uled that education is not a constitutional federal inter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 Court C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s that followed the Serrano  philosophy found education to be a fundamental right for the students in those several states, or found school financing patterns to be in violation of state education clau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s that followed the Rodriguez philosophy found no justifications for equal-per-pupil expenditures in their state constitutions or ruled that the matter was for legislatures to dec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nance Reform or Tax Redu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mpact of the courts was altered by a tax-reduction movement and/or legislatures deciding they did not have the funds to comply.  The tax-reduction movement was heightened by the passage of Proposition 13 in California.  Several States followed California’s lead in reducing tax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2:23:19Z</dcterms:created>
  <dc:creator>Cynthia Altemueller</dc:creator>
  <dc:description/>
  <dc:language>en-US</dc:language>
  <cp:lastModifiedBy>AEURY</cp:lastModifiedBy>
  <dcterms:modified xsi:type="dcterms:W3CDTF">2006-01-27T22:13:22Z</dcterms:modified>
  <cp:revision>3</cp:revision>
  <dc:subject/>
  <dc:title>Finance in Education</dc:title>
</cp:coreProperties>
</file>